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CC5-997A-4E83-9365-3DF5C9DA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FDD-9234-46D2-984F-BBD2BB9D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812-7178-4D7F-84EF-EC790063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303-39E1-4D4A-8589-D578F7B1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B3CA-94D0-4362-A982-8E7A2713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8F87-195C-489D-91C2-DC5326D4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6F8D-88A7-4560-8AAC-7CEEAFC0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8DD1-74DF-433F-8FB9-066CC27C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F2F8-1B72-407C-B5DF-9A560266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38B2-35B1-47A2-A891-28F90C9F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2EC3-7340-415B-84EB-1C0AC62B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E27-8FBA-4DF3-B840-E9570CC4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5E17-2A82-4A9E-9E7A-8C815F53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3ACF-5314-4242-9A66-3951A820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B0BE-5F01-4960-8CCE-1F4FDF0D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553C-191F-4AA4-A314-23D7A0C6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C653-4083-40EA-87B8-E1EDF454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021-2942-4C5D-BA3D-BB80CB61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DB9-9D81-4CC2-BA3A-9B7336E9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595-7EA2-4A0C-9A73-A3F33363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851-3E16-4F80-9C10-1099BCB5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8EA-097A-46D4-A955-E0B4E1A0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687-8850-4132-A478-E7413851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3DE-8183-451E-9BA2-CCDCE240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F58F-0828-4B4A-90DC-618EECD5A9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61B0-0ECE-4610-8547-A4731E5EB0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vedor de Dad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stalação e Configura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ão Li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4. Configurar o arquivo 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    lexm-db.propert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Edite o arquivo recém criado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lexml-db.properties substituind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 usuario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senha do usuário e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string de conexão jdb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00200" y="4495680"/>
            <a:ext cx="6335640" cy="1676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76520" y="5257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27080" y="5094360"/>
            <a:ext cx="76320" cy="53316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5. Configurando os script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Wind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dite os arquivos instalar.bat e validar.b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Lin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daptar os scripts para sua instalaçã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6. Criar as tabelas no ban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Window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te o arquivo instalar.b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unix/linux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te o arquivo instalar.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ga do banco de d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7. Inserir metadados na base de dados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e o banco é MySQL utilize a partir da sua aplicação de exportação de metadados inserts do tip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ERT INTO `registro_item` (`id_registro_item`, `tx_metadado_xml`, `cd_status`, `cd_validacao` , `ts_registro_gmt`)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LUES('oai:ssinf.senado.gov.br:njur/112321', '$OAI_LEXML', 'N', 'I', UTC_TIMESTAMP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e o banco é Oracle a instrução modifica-se pouc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ERT INTO registro_item (id_registro_item, tx_metadado_xml, cd_status, cd_validacao , ts_registro_gmt) VALUES('oai:ssinf.senado.gov.br:njur/112321', '$OAI_LEXML', 'N', 'I', sysd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bre os d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regra de formação da coluna id_registro_item é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id_registro_item := prefixo_oai + "/" + chav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prefixo_oai      := 'oai:' + [orgao + "."] + dominio + ":" + sistema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chave            := identificador_interno  + [ ";" + detalhe]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identificador_interno := é a chave do sistema de origem do registr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EXEMPLO: 'oai:ssinf.senado.gov.br:njur/112321'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O valor 'N' da coluna cd_status significa que o registro é nov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O valor 'I' da coluna cd_validacao significa que o registro é pendente de validaçã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coluna ts_registro_gmt deve receber sempre a data atual UTC ('2008-08-08 08:08:08') dependendo do horário de verão são 2 ou 3 horas a mais do que o horário oficial de Brasília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coluna tx_metadado_xml deve receber o arquivo XML com os metadados de acordo com o schema lexml_oai.xsd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http://www.lexml.gov.br/sch/oai_lexml.xs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XML de Metad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lexml:LexML xsi:schemaLocation="http://projeto.lexml.gov.br/esquemas/oai_lexml.xsd" xmlns:lexml="http://www.lexml.gov.br/oai_lexml" xmlns:xsi="http://www.w3.org/2001/XMLSchema-instanc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Item formato="text/html" idPublicador="1" tipo="conteudo"&gt; http://www6.senado.gov.br/legislacao/ListaPublicacoes.action?id=132554 &lt;/Item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Item formato="text/html" idPublicador="1" tipo="metadado"&gt; http://www6.senado.gov.br/legislacao/DetalhaDocumento.action?id=132554 &lt;/Item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DocumentoIndividual&gt;urn:lex:br:federal:lei:1988-12-02;7682@inicio.vigencia;publicacao;1988-12-05~texto;pt-br &lt;/DocumentoIndividual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Epigrafe&gt;Lei nº 7.682, de 02 de dezembro de 1988&lt;/Epigrafe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Ementa&gt;ALTERA O DECRETO-LEI 2.406, DE 5 DE JANEIRO DE 1988, E DA OUTRAS PROVIDENCIAS.&lt;/Ementa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Relacionamento tipo="publicacao.oficial"&gt;urn:lex:br:imprensa.nacional:publicacao.oficial;diario.oficial.uniao:1988-12-05@1988-12-05;publicacao;1988-12-05~texto;pt-br&lt;/Relacionamento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/lexml:LexML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cução do Valid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8. Validando os registros novos no banco de dad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xecut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validar.bat (se window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h ./validar.sh (se unix/linux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urante o processamento são gerados os arquivos de erros e log de execuçã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rimeiro é um relatório dos erros identificados durante a validação e o segundo somente um log dos registros process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e o arquivo validacao_err.txt para identificar os registros com er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O Log e os Erros também são registrados no banco de dad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Lo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76312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ódu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Validad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Banco de Dados com registro de metad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rograma que valida a estrutura e o perfil dos public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Interface WEB OAI-PM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põe os metadados utilizando o protocolo OAI-PM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77040" y="0"/>
            <a:ext cx="3666960" cy="5791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4876920" cy="1433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8458200" cy="905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0" y="2514600"/>
            <a:ext cx="5410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Arquivo lexml_nbconfig.xml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Perfis dos publicado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13487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ace WEB – OAI-PM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piar arquivo oai.war para um container ja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Tomca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Jetty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OC4J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nfigurar/Atualizar em WEB-INF os arquiv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-db.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_nbconfig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lidador - Pas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nstal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1. Criar conta no banco de 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2. Obter o arquivo de profi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3. Copiar o arquivo de configur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4. Configurar o arquivo lexm-db.proper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5. Configurar os scripts de validação e instal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6. Criar as tabel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arga dos Meta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7. Inserir metadados na base de 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xecução do Valid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8. Validar os metadados inseri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lação e Configuração do Valid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 Criando conta no banco de dados e databa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ando o Oracl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exemplo utilizando o sql*plu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 connect syste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*digite a senha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CREATE USER lexmluser IDENTIFIED BY lexmlpasswor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DEFAULT TABLESPACE us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TEMPORARY TABLESPACE tem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QUOTA UNLIMITED ON use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 GRANT CONNECT TO lexmluse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ando o Mysql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uario@localhost&gt;mysql -uroot -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create database lexmldatabas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GRANT ALL PRIVILEGES ON lexmldatabase.* to 'lexmluser'@'localhost' IDENTIFIED BY 'lexmlpassword' WITH GRANT OPTION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FLUSH PRIVILEGE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2. Obtendo o arquivo de pro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O arquivo de profile define as combinações possíveis dos elementos localidade, autoridade e tipo de documento de um public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Obs: Na fase de implantação, este arquivo XML será enviado por e-mail a partir do preenchimento da planilha "Perfil Provedor Dados.xls"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7724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3678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3828960"/>
            <a:ext cx="111538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. Copiar o arquivo de configuração do banco de dad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Se estiver utilizando Oracl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Copie o arquivo 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\oracle\lexml-db-ORACLE.properties 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para: 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lexml-db.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Se estiver utilizando Mysql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Copie o arquivo 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\mysql\lexml-db-MYSQL.properties para: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lexml-db.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Para outros SGBD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Adaptar as strings de conexão e drivers para o sistemas gerenciador desejad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Copie o arquivo do drive JDBC para o diretório li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OBSERVACAO: caso você esteja usando o driver da Oracle veja se o arquivo é adequado a versão e release do seu gerenciad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aolima</cp:lastModifiedBy>
  <dcterms:modified xsi:type="dcterms:W3CDTF">2009-05-07T21:39:4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